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90B-C8EE-4671-832B-7999610F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ED4-4103-4DA5-BADF-11544C4B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61B-A8ED-435B-84BC-F8ACD7EB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418-FC11-419D-A306-A16AB192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F15-4E62-4713-8C7D-95AA86E1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C70-E593-4EC9-9088-7F02A6F2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405-3147-45B4-988B-CCCA8B96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934A-B0E1-441C-9B06-37E726E4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8C1-D475-4647-8C1E-4ADB8C33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DCF-2C50-4424-95AE-9EB373F6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BEA-1009-41A5-A0E4-575A8E82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1AB-9FC0-4E6C-9BBA-F6356915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5079C-340B-440C-8699-6C8923DD7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y come to Americ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Early Immigrants' Reas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1:  Economic Opportunity (Land and Mone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ngland’s population in the 1600’s grew rapidly.  At the same time, farming technology improved, pushing man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landless peasants out of farm work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and in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poverty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in the increasing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crowded citie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.  Land and economic opportunity were sca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992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10080720" cy="641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790920" indent="-489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Founded in 1607 by 104 men and boys in what is now Virgi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0920" indent="-489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Located on a marshy peninsula (for defense purposes) – infested with mosquitoes carrying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0920" indent="-489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olony also plagued by Indian attacks and bad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0920" indent="-489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Only 25% of the colonists survived the first year – hunger, dysentery, malaria, yellow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0920" indent="-489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ore colonists came (including families), but second winter harder – “the starving time” – one colonist ate his w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0920" indent="-489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obacco crop “saves” Jamestown as it provides a steady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ntured Serv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228600" y="1142640"/>
            <a:ext cx="1005840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888840" indent="-5508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o do the intense farmwork required for tobacco cultivation, more workers were nee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8840" indent="-5508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Poor young men, ages 18-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8840" indent="-5508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ork as servant for 5-7 years in exchange for free voyage, free food and shelter, and 50 acres of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8840" indent="-5508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ad few rights, but more than sl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8840" indent="-5508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t least 50% of 17</a:t>
            </a:r>
            <a:r>
              <a:rPr b="0" lang="en-US" sz="3600" spc="-1" strike="noStrike" baseline="15000">
                <a:solidFill>
                  <a:srgbClr val="000000"/>
                </a:solidFill>
                <a:latin typeface="Franklin Gothic Book"/>
                <a:ea typeface="Franklin Gothic Book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century European immigrants came as indentured serv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2:  Religious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Under Henry VIII, the Church of England had become controlled by the Crown.  Some people thought this to be a violation of Christian principles.  For them, government control of religion was impure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The Church of England harassed those who practiced other reli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grims:  Plymouth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100807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9000"/>
          </a:bodyPr>
          <a:p>
            <a:pPr marL="879840" indent="-545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eparatists:  wanted to be left alone to practice their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9840" indent="-545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fter living in exile in the Netherlands, about 100 Pilgrims set sail on the </a:t>
            </a:r>
            <a:r>
              <a:rPr b="0" i="1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ayflower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in 16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9840" indent="-545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Unlike Jamestown, original settlers were families who moved to practice religion, not to make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9840" indent="-545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alf died in first winter alone, semi-successful relationship with local Natives helped them surv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09440"/>
            <a:ext cx="9575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itans:  Massachusetts Bay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100807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5000"/>
          </a:bodyPr>
          <a:p>
            <a:pPr marL="844200" indent="-52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rrived in Boston in 16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4200" indent="-52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Not separatists like Pilgrims, they wanted to set up a land with a “purified” English chu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4200" indent="-52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trong work ethic, well-organized, well-educ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4200" indent="-52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ost successful of early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4200" indent="-52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xtremely religious (and intolerant of oth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4200" indent="-52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elieved God has chosen them to found a “city on a hill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3800" y="338040"/>
            <a:ext cx="9575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3:  They were forced to 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6280" y="1828440"/>
            <a:ext cx="9623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War and disease quickly reduced the number of Native American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living in the Caribbean Islands and directly along the Atlantic coast.  In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desire for cheap labor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, European colonists turned to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Middle Pass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228600" y="1371600"/>
            <a:ext cx="10058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853200" indent="-528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iddle Passage” refers to the side of the slave trade triangle from Africa to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0" indent="-528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laves captured in Africa and sold to European slave t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0" indent="-528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rutal conditions on journey over, many died o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0" indent="-528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laves arrived early on in Jamestown and other Southern colonies to tend fields, but also lived throughout all colonies, largely as personal servant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0" indent="-528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etween 10 and 20 million slaves in total were brought to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3:45:56Z</dcterms:created>
  <dc:creator/>
  <dc:description/>
  <dc:language>en-US</dc:language>
  <cp:lastModifiedBy/>
  <cp:revision>1</cp:revision>
  <dc:subject/>
  <dc:title/>
</cp:coreProperties>
</file>